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1DA-06AE-4A18-BD0B-2A056DA8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9DA-4AE0-456D-A2B3-E5559FB2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BC4-000C-4035-8B68-FA874CB8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DD0-F675-4DCE-9890-5EA8FBD2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0C6-7330-44D1-927B-63BADC21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058-26B9-40DA-BB69-9D014D70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834-1FE9-4490-B625-416F2F94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D08-AB13-4D34-ACF7-6FACB92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B05-FB78-4D86-BEE1-33F9FC02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F0E-F09A-4841-BACF-83D01D4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1CD-4C99-407A-B8C9-F0CE584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852-2C13-42D9-9B66-29E62E7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4ECB-6818-43EA-AFEE-E2EA712E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4DCB-A2FC-4F92-8EAA-72F04250C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get-Method Match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295280"/>
          <a:ext cx="8458200" cy="4356360"/>
        </p:xfrm>
        <a:graphic>
          <a:graphicData uri="http://schemas.openxmlformats.org/drawingml/2006/table">
            <a:tbl>
              <a:tblPr/>
              <a:tblGrid>
                <a:gridCol w="1708200"/>
                <a:gridCol w="1473120"/>
                <a:gridCol w="1087200"/>
                <a:gridCol w="2017800"/>
                <a:gridCol w="21718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Response &amp; Short Answ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57:37Z</dcterms:created>
  <dc:creator>ccps</dc:creator>
  <dc:description/>
  <dc:language>en-US</dc:language>
  <cp:lastModifiedBy>ccps</cp:lastModifiedBy>
  <dcterms:modified xsi:type="dcterms:W3CDTF">2010-10-13T15:58:06Z</dcterms:modified>
  <cp:revision>1</cp:revision>
  <dc:subject/>
  <dc:title>Slide 1</dc:title>
</cp:coreProperties>
</file>